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68A-24ED-4B0A-8CBA-3A4167EF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Ex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39.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PORT, DB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SERVICE NAME, USERNAME, PASSWO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 URL, html version of metadata to support Google 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, set name, metadata pref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esting:  geodata.gov retrieves metadata records from users data cata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:  geodata.gov determines if metadata contain required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ing: Successfully published records are published to geodata.go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ype Assignment:  Metadata records will be assigned to a Data Type based on online linkag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-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- interoper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Many flavors of CS-W (profiles EBRim, FGDC, ISO etc) .  How to get full metadata record back?  Only get a subset currently through standard OG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 – code is accessible and uses xm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provided by one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-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- interoper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Many flavors of CS-W (profiles EBRim, FGDC, ISO etc) .  How to get full metadata record back?  Only get a subset currently through standard OG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IMS – code is accessible and uses xm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– provided by one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‘National Catalog’ created through cataloging efforts across the country and gover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fy Metadata contains required fiel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Type:  Online Linkage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Live Data &amp; Ma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Downloadabl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Map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graphic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Theme: Theme Keyw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ISO Top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iology and Ecolog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Atmospheric and Climat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Geological and Geophys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Oceans and Estua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Imagery and Base Ma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60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796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60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7960" y="352116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7160" y="352116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2116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ESIP &amp; Geospatial One-Stop (GOS)</a:t>
            </a: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ing ESIP Products and Services with Geospatial One-St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In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5000" y="2462040"/>
            <a:ext cx="65340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0102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 (cont)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tial 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5000" y="2362320"/>
            <a:ext cx="6534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ample XML Metadata Record with FGDC Essential Elements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353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ample XML Metadata Record with FGDC Essenti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720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Valuable Conditional Elemen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d in Metadata 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d by GOS XS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6553080" cy="1162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3543480"/>
            <a:ext cx="312408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ource description (content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Valuable Condition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me Keywords (data categor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metadata/idinfo/keywords/theme/theme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metadata/dataIdInfo/tpCat/TopicCatC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90760" y="2990880"/>
            <a:ext cx="34005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Valuable Conditional Elements (cont)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Links – reference external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ed in multiple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by GOS XSLT to define content 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695920" cy="246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10600" y="3581280"/>
            <a:ext cx="971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2: Register as a Publisher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3: Select Publishing Method 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S Publishing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Metadata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load Metadata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est Meta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Objective – Answer Questions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hould ESIP members publish their metadata holdings to the GO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ESIP members publish their metadata holdings to GO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Create Metadata Tool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based metadata cre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Valid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record at a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3129120"/>
            <a:ext cx="4786560" cy="289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5120" y="1447920"/>
            <a:ext cx="335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Upload Metadata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 for manual uploading of meta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record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5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ed, scheduled process for collecting new and updated FGDC metadata from external catalogs for publishing to G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hronizes GOS repository with publishers metadata catalo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protocol options available for harvesting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ferred publishing method for large metadata catalo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4: Configure Harvesting 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39.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I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I-PM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-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1765440"/>
            <a:ext cx="5715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/ Publish Process</a:t>
            </a: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305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 Protocol Pros-Con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371600"/>
          <a:ext cx="8305920" cy="545472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403848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39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interoperable standard clearinghouse connection supports GSDI and GEOSS. Queries, security and ISite SW suppo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 Requires some resources to setup and administer. Must set up on port other than 80.  Must use new version of ISite to assign unique ID to recor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c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ies publishing if in an Arc environment - good persistent unique ID supports traceability.  SW allows use of other protocols. AXL Code is xml bas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s your collection to other ESRI collection.   Proprietary interface connects easily with GOS but not natively to other NSDI/GSDI nodes. (GOS make the whole collection available through the other protocols).  May need to edit some fields.  Code provided by one vend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y to set up with little administ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te - different access controls – Active Directory ba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que ID management is tied to the location of the system as opposed to a persistent ID from the metadata.   ID changes if folder moves to a different machine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ing Protocol Pros-Con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600200"/>
          <a:ext cx="8305920" cy="266868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4038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-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operable OGC S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ll new. Many flavors or profiles (EBRim, FGDC, ISO etc).  Currently appears to only support getting a subset of the metadata and not the full record bac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I-PM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rary community support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users at this time in GOS. Limited experience with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cece"/>
                      </a:solidFill>
                    </a:lnL>
                    <a:lnR w="5760">
                      <a:solidFill>
                        <a:srgbClr val="cecece"/>
                      </a:solidFill>
                    </a:lnR>
                    <a:lnT w="5760">
                      <a:solidFill>
                        <a:srgbClr val="cecece"/>
                      </a:solidFill>
                    </a:lnT>
                    <a:lnB w="5760">
                      <a:solidFill>
                        <a:srgbClr val="cecec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Step 5: Review harvest resul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vest Re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829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Repor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450800"/>
            <a:ext cx="70866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arvest Report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ntify metadata records that fail valid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532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hat is GOS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data.gov is a portal to our Nation’s digital geographic 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d by the Department of the Interior and sponsored by the President’s Initiative for E-Governm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ortal is a catalog of geospatial information containing metadata records (information about the data) and corresponding links to live map, feature, and catalog services, downloadable data sets, images, clearinghouses, map files, and mor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ow does GOS benefit ESIP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repository for ESIP metadat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forum for showcasing ESIP products and services to the broader geospatial commu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a gateway for GOS users to access the EIE port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Top 10 reasons ESIP members should publish their data holding to GOS?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Organizational exposure via the ESIP communit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ap Viewer for displaying map services (OGC &amp; ArcIM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Option to view map services in Google Eart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Robust search tools for finding metadata (spatial,  temporal, text based searching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Google search enabled meta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 Marketplace for finding &amp; sharing geospatial resou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Easy to use publishing, harvesting, and metadata management Tools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 FGDC &amp; ISO friendly ing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  The GOS repository will eventually be harvested by the EI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 It will make Dick happy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ing Metadata to the Geospatial One-Stop Operational Portal- ESRI White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and Publishing Metadata in Support of Geospatial One-Stop and the NSD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hat is GOS (cont)?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for uploading and harvesting meta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for metadata management and administr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 Vie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pla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GOS and Standard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GDC &amp; ISO (NA Profile in future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G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MS, WFS, W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esting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-W, Z39.50, OAI, WAF, ArcI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olog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-W, Z39.50, OAI, GOOGLE HT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l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R-16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ESIP Community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379520"/>
            <a:ext cx="6172200" cy="447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3665520"/>
            <a:ext cx="60674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How do ESIP members publish their metadata holdings to GOS?</a:t>
            </a:r>
            <a:endParaRPr b="1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1:  Prepare metadata for GOS inge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 Register as a publish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3:  Select a publishing metho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S metadata creation to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load Metadata - Man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vest Metadata – Autom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4: Configure harvest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5: Review harvesting result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Step 1: Prepare metadata for GOS Ingest?</a:t>
            </a:r>
            <a:endParaRPr b="1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Valid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ude required el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e search with conditional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e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atial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or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y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he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mize references to external resources with online lin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p Servic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p 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3366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Required Validation Elements</a:t>
            </a:r>
            <a:endParaRPr b="1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In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05000" y="2219400"/>
            <a:ext cx="653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41:14Z</dcterms:created>
  <dc:creator>jkozimor</dc:creator>
  <dc:description/>
  <dc:language>en-US</dc:language>
  <cp:lastModifiedBy>jkozimor</cp:lastModifiedBy>
  <dcterms:modified xsi:type="dcterms:W3CDTF">2007-12-20T17:44:25Z</dcterms:modified>
  <cp:revision>41</cp:revision>
  <dc:subject/>
  <dc:title>ESIP &amp; Geo-spatial One-Stop (GOS) </dc:title>
</cp:coreProperties>
</file>